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546-6AC5-4AC7-B0AE-3EB51FAD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BF8-5684-48BB-AD22-ED9E27D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672-330A-4060-81E4-2ABF056F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324-9B34-481A-8B6E-3996427A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627-139B-4A56-B1B7-E3930619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BAD-86D6-4522-B590-E050D853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5CB-3CD9-40B5-9746-F0E41196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A98-5A7F-4951-85BF-81E5FB39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638-06BB-4858-AD86-198DEC4E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24C-A62A-4725-8615-58EA111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C00-A0E0-4DF0-8214-A7F452A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7D9-7CC3-4908-90F6-CDC898E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98CF-44AE-448E-B0DA-07172F7E2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80hF09BMKM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BvOhfL4mYw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95400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Sneak Peek </a:t>
            </a:r>
            <a:br>
              <a:rPr sz="72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to the</a:t>
            </a:r>
            <a:br>
              <a:rPr sz="15600"/>
            </a:br>
            <a:r>
              <a:rPr b="0" lang="en-US" sz="6000" spc="-1" strike="noStrike">
                <a:solidFill>
                  <a:srgbClr val="0000ff"/>
                </a:solidFill>
                <a:latin typeface="Brush Script MT"/>
              </a:rPr>
              <a:t> Winter Wonderland </a:t>
            </a:r>
            <a:r>
              <a:rPr b="0" lang="en-US" sz="7200" spc="-1" strike="noStrike">
                <a:solidFill>
                  <a:srgbClr val="0000ff"/>
                </a:solidFill>
                <a:latin typeface="Brush Script MT"/>
              </a:rPr>
              <a:t>Book Fair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tch a Snowflak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Capture the Magi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Read a Book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53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UGL</a:t>
            </a:r>
            <a:r>
              <a:rPr b="0" lang="en-CA" sz="7200" spc="-1" strike="noStrike">
                <a:solidFill>
                  <a:srgbClr val="ffffff"/>
                </a:solidFill>
                <a:latin typeface="AADAVID"/>
              </a:rPr>
              <a:t>IE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ADAVID"/>
              </a:rPr>
              <a:t>Scott Westerf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5920"/>
            <a:ext cx="4713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ADAVID"/>
              </a:rPr>
              <a:t>ENTER THREE 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DAVID"/>
              </a:rPr>
              <a:t>A Story of Macb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Caro</a:t>
            </a:r>
            <a:r>
              <a:rPr b="0" lang="en-US" sz="3600" spc="-1" strike="noStrike">
                <a:solidFill>
                  <a:srgbClr val="ffffff"/>
                </a:solidFill>
                <a:latin typeface="AADAVID"/>
              </a:rPr>
              <a:t>line B. Co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9795" t="0" r="19795" b="0"/>
          <a:stretch/>
        </p:blipFill>
        <p:spPr>
          <a:xfrm>
            <a:off x="4968720" y="-54000"/>
            <a:ext cx="417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50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ffffff"/>
                </a:solidFill>
                <a:latin typeface="AADAVID"/>
              </a:rPr>
              <a:t>THE ALCHEMYST:</a:t>
            </a:r>
            <a:br>
              <a:rPr sz="5400"/>
            </a:br>
            <a:r>
              <a:rPr b="0" lang="en-CA" sz="2800" spc="-1" strike="noStrike">
                <a:solidFill>
                  <a:srgbClr val="ffffff"/>
                </a:solidFill>
                <a:latin typeface="AADAVID"/>
              </a:rPr>
              <a:t>The Secrets of the Immortal Nicholas Flamel</a:t>
            </a:r>
            <a:br>
              <a:rPr sz="2800"/>
            </a:br>
            <a:r>
              <a:rPr b="0" lang="en-CA" sz="5400" spc="-1" strike="noStrike">
                <a:solidFill>
                  <a:srgbClr val="ffffff"/>
                </a:solidFill>
                <a:latin typeface="AADAVID"/>
              </a:rPr>
              <a:t>Michael Scot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526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968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ffff"/>
                </a:solidFill>
                <a:latin typeface="AADAVID"/>
              </a:rPr>
              <a:t>TWI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1" lang="en-CA" sz="4000" spc="-1" strike="noStrike">
                <a:solidFill>
                  <a:srgbClr val="ffffff"/>
                </a:solidFill>
                <a:latin typeface="AvantGarde Bk BT"/>
              </a:rPr>
              <a:t>Stephenie Me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04640"/>
            <a:ext cx="3787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6:16Z</dcterms:created>
  <dc:creator>TCDSB</dc:creator>
  <dc:description/>
  <dc:language>en-US</dc:language>
  <cp:lastModifiedBy>TCDSB</cp:lastModifiedBy>
  <dcterms:modified xsi:type="dcterms:W3CDTF">2009-03-06T18:26:43Z</dcterms:modified>
  <cp:revision>3</cp:revision>
  <dc:subject/>
  <dc:title> </dc:title>
</cp:coreProperties>
</file>