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B34E-972D-4706-ADB8-C61372392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2422-35DD-43C2-957A-F9F63BC4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56D1-7E9A-4B8E-96C1-6E128415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EA6A-03A7-42C6-8160-5F5F88B71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08E5-1A53-46FE-9DD0-E33C5D3D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D516-6AAF-4107-B4EC-86B88949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2096-E4E6-45D5-9619-73A9E34E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E182-BB30-4BD7-9BC9-DE7C0D96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216D-EC1B-445F-B205-1A98BF5C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515E-FE18-4BEC-BB98-310F1773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8538-0F67-4767-B858-95959DCE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F5B8-F05E-4DC0-A0B0-F0320071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9039-8068-4BB6-809A-B68FBD7DC8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80hF09BMKM&amp;feature=related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BvOhfL4mYw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35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340000" y="954000"/>
            <a:ext cx="64008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Brush Script MT"/>
              </a:rPr>
              <a:t>Sneak Peek </a:t>
            </a:r>
            <a:br>
              <a:rPr sz="7200"/>
            </a:br>
            <a:r>
              <a:rPr b="0" lang="en-US" sz="6000" spc="-1" strike="noStrike">
                <a:solidFill>
                  <a:srgbClr val="0000ff"/>
                </a:solidFill>
                <a:latin typeface="Brush Script MT"/>
              </a:rPr>
              <a:t>to the</a:t>
            </a:r>
            <a:br>
              <a:rPr sz="15600"/>
            </a:br>
            <a:r>
              <a:rPr b="0" lang="en-US" sz="6000" spc="-1" strike="noStrike">
                <a:solidFill>
                  <a:srgbClr val="0000ff"/>
                </a:solidFill>
                <a:latin typeface="Brush Script MT"/>
              </a:rPr>
              <a:t> Winter Wonderland </a:t>
            </a:r>
            <a:r>
              <a:rPr b="0" lang="en-US" sz="7200" spc="-1" strike="noStrike">
                <a:solidFill>
                  <a:srgbClr val="0000ff"/>
                </a:solidFill>
                <a:latin typeface="Brush Script MT"/>
              </a:rPr>
              <a:t>Book Fair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ush Script MT"/>
              </a:rPr>
              <a:t>Catch a Snowflake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ush Script MT"/>
              </a:rPr>
              <a:t>Capture the Magic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ush Script MT"/>
              </a:rPr>
              <a:t>Read a Book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8000" y="981000"/>
            <a:ext cx="35384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200" spc="-1" strike="noStrike">
                <a:solidFill>
                  <a:srgbClr val="ffffff"/>
                </a:solidFill>
                <a:latin typeface="AADAVID"/>
              </a:rPr>
              <a:t>UGL</a:t>
            </a:r>
            <a:r>
              <a:rPr b="0" lang="en-CA" sz="7200" spc="-1" strike="noStrike">
                <a:solidFill>
                  <a:srgbClr val="ffffff"/>
                </a:solidFill>
                <a:latin typeface="AADAVID"/>
              </a:rPr>
              <a:t>IES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ADAVID"/>
              </a:rPr>
              <a:t>Scott Westerfe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15920"/>
            <a:ext cx="47131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3640" y="105264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701"/>
                </a:solidFill>
                <a:latin typeface="AADAVID"/>
              </a:rPr>
              <a:t>ENTER THREE WIT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ADAVID"/>
              </a:rPr>
              <a:t>A Story of Macbe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ADAVID"/>
              </a:rPr>
              <a:t>Caro</a:t>
            </a:r>
            <a:r>
              <a:rPr b="0" lang="en-US" sz="3600" spc="-1" strike="noStrike">
                <a:solidFill>
                  <a:srgbClr val="ffffff"/>
                </a:solidFill>
                <a:latin typeface="AADAVID"/>
              </a:rPr>
              <a:t>line B. Coon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9795" t="0" r="19795" b="0"/>
          <a:stretch/>
        </p:blipFill>
        <p:spPr>
          <a:xfrm>
            <a:off x="4968720" y="-54000"/>
            <a:ext cx="417528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56000" y="404280"/>
            <a:ext cx="4500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5400" spc="-1" strike="noStrike">
                <a:solidFill>
                  <a:srgbClr val="ffffff"/>
                </a:solidFill>
                <a:latin typeface="AADAVID"/>
              </a:rPr>
              <a:t>THE ALCHEMYST:</a:t>
            </a:r>
            <a:br>
              <a:rPr sz="5400"/>
            </a:br>
            <a:r>
              <a:rPr b="0" lang="en-CA" sz="2800" spc="-1" strike="noStrike">
                <a:solidFill>
                  <a:srgbClr val="ffffff"/>
                </a:solidFill>
                <a:latin typeface="AADAVID"/>
              </a:rPr>
              <a:t>The Secrets of the Immortal Nicholas Flamel</a:t>
            </a:r>
            <a:br>
              <a:rPr sz="2800"/>
            </a:br>
            <a:r>
              <a:rPr b="0" lang="en-CA" sz="5400" spc="-1" strike="noStrike">
                <a:solidFill>
                  <a:srgbClr val="ffffff"/>
                </a:solidFill>
                <a:latin typeface="AADAVID"/>
              </a:rPr>
              <a:t>Michael Scott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1526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1700280"/>
            <a:ext cx="49687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0" spc="-1" strike="noStrike">
                <a:solidFill>
                  <a:srgbClr val="ffffff"/>
                </a:solidFill>
                <a:latin typeface="AADAVID"/>
              </a:rPr>
              <a:t>TWILIGH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ffffff"/>
                </a:solidFill>
                <a:latin typeface="AvantGarde Bk BT"/>
              </a:rPr>
              <a:t> </a:t>
            </a:r>
            <a:r>
              <a:rPr b="1" lang="en-CA" sz="4000" spc="-1" strike="noStrike">
                <a:solidFill>
                  <a:srgbClr val="ffffff"/>
                </a:solidFill>
                <a:latin typeface="AvantGarde Bk BT"/>
              </a:rPr>
              <a:t>Stephenie Mey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404640"/>
            <a:ext cx="378792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5:06:16Z</dcterms:created>
  <dc:creator>TCDSB</dc:creator>
  <dc:description/>
  <dc:language>en-US</dc:language>
  <cp:lastModifiedBy>TCDSB</cp:lastModifiedBy>
  <dcterms:modified xsi:type="dcterms:W3CDTF">2009-03-06T18:26:43Z</dcterms:modified>
  <cp:revision>3</cp:revision>
  <dc:subject/>
  <dc:title> </dc:title>
</cp:coreProperties>
</file>