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501-CC6D-4317-A38A-25DEB5ED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B9F-D20E-4DFF-93D6-AD0CB7D1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9D2-11BF-4B41-BC8E-72F9D6F1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1CD-3F0B-4133-B4A3-5CA81677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FD8-CF8F-4ADB-BD91-10F268BD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EAB-FCA2-4AC9-ABE5-B47278BD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ACD-C4AA-4665-8BCB-61968881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6AB-D7CE-4B81-A518-2389939C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F70-243C-4B81-B89D-71287937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729-8CAE-4A78-BB5B-8E85991E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614-C15D-4545-959A-FBAF279E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6EC-8AF4-47D4-8C92-A8737200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E86E-4C16-40A4-A912-836873ED61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80hF09BMKM&amp;feature=relate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BvOhfL4mYw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40000" y="954000"/>
            <a:ext cx="6400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Brush Script MT"/>
              </a:rPr>
              <a:t>Sneak Peek </a:t>
            </a:r>
            <a:br>
              <a:rPr sz="7200"/>
            </a:br>
            <a:r>
              <a:rPr b="0" lang="en-US" sz="6000" spc="-1" strike="noStrike">
                <a:solidFill>
                  <a:srgbClr val="0000ff"/>
                </a:solidFill>
                <a:latin typeface="Brush Script MT"/>
              </a:rPr>
              <a:t>to the</a:t>
            </a:r>
            <a:br>
              <a:rPr sz="15600"/>
            </a:br>
            <a:r>
              <a:rPr b="0" lang="en-US" sz="6000" spc="-1" strike="noStrike">
                <a:solidFill>
                  <a:srgbClr val="0000ff"/>
                </a:solidFill>
                <a:latin typeface="Brush Script MT"/>
              </a:rPr>
              <a:t> Winter Wonderland </a:t>
            </a:r>
            <a:r>
              <a:rPr b="0" lang="en-US" sz="7200" spc="-1" strike="noStrike">
                <a:solidFill>
                  <a:srgbClr val="0000ff"/>
                </a:solidFill>
                <a:latin typeface="Brush Script MT"/>
              </a:rPr>
              <a:t>Book Fair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Catch a Snowflak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Capture the Magic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Read a Book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8000" y="981000"/>
            <a:ext cx="3538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ffffff"/>
                </a:solidFill>
                <a:latin typeface="AADAVID"/>
              </a:rPr>
              <a:t>UGL</a:t>
            </a:r>
            <a:r>
              <a:rPr b="0" lang="en-CA" sz="7200" spc="-1" strike="noStrike">
                <a:solidFill>
                  <a:srgbClr val="ffffff"/>
                </a:solidFill>
                <a:latin typeface="AADAVID"/>
              </a:rPr>
              <a:t>IE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ADAVID"/>
              </a:rPr>
              <a:t>Scott Westerfe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5920"/>
            <a:ext cx="47131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ADAVID"/>
              </a:rPr>
              <a:t>ENTER THREE WIT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ADAVID"/>
              </a:rPr>
              <a:t>A Story of Macb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ADAVID"/>
              </a:rPr>
              <a:t>Caro</a:t>
            </a:r>
            <a:r>
              <a:rPr b="0" lang="en-US" sz="3600" spc="-1" strike="noStrike">
                <a:solidFill>
                  <a:srgbClr val="ffffff"/>
                </a:solidFill>
                <a:latin typeface="AADAVID"/>
              </a:rPr>
              <a:t>line B. Co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9795" t="0" r="19795" b="0"/>
          <a:stretch/>
        </p:blipFill>
        <p:spPr>
          <a:xfrm>
            <a:off x="4968720" y="-54000"/>
            <a:ext cx="417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56000" y="404280"/>
            <a:ext cx="450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400" spc="-1" strike="noStrike">
                <a:solidFill>
                  <a:srgbClr val="ffffff"/>
                </a:solidFill>
                <a:latin typeface="AADAVID"/>
              </a:rPr>
              <a:t>THE ALCHEMYST:</a:t>
            </a:r>
            <a:br>
              <a:rPr sz="5400"/>
            </a:br>
            <a:r>
              <a:rPr b="0" lang="en-CA" sz="2800" spc="-1" strike="noStrike">
                <a:solidFill>
                  <a:srgbClr val="ffffff"/>
                </a:solidFill>
                <a:latin typeface="AADAVID"/>
              </a:rPr>
              <a:t>The Secrets of the Immortal Nicholas Flamel</a:t>
            </a:r>
            <a:br>
              <a:rPr sz="2800"/>
            </a:br>
            <a:r>
              <a:rPr b="0" lang="en-CA" sz="5400" spc="-1" strike="noStrike">
                <a:solidFill>
                  <a:srgbClr val="ffffff"/>
                </a:solidFill>
                <a:latin typeface="AADAVID"/>
              </a:rPr>
              <a:t>Michael Scot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526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4968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ff"/>
                </a:solidFill>
                <a:latin typeface="AADAVID"/>
              </a:rPr>
              <a:t>TWILIGH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vantGarde Bk BT"/>
              </a:rPr>
              <a:t> </a:t>
            </a:r>
            <a:r>
              <a:rPr b="1" lang="en-CA" sz="4000" spc="-1" strike="noStrike">
                <a:solidFill>
                  <a:srgbClr val="ffffff"/>
                </a:solidFill>
                <a:latin typeface="AvantGarde Bk BT"/>
              </a:rPr>
              <a:t>Stephenie Mey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404640"/>
            <a:ext cx="37879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5:06:16Z</dcterms:created>
  <dc:creator>TCDSB</dc:creator>
  <dc:description/>
  <dc:language>en-US</dc:language>
  <cp:lastModifiedBy>TCDSB</cp:lastModifiedBy>
  <dcterms:modified xsi:type="dcterms:W3CDTF">2009-03-06T18:26:43Z</dcterms:modified>
  <cp:revision>3</cp:revision>
  <dc:subject/>
  <dc:title> </dc:title>
</cp:coreProperties>
</file>