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719-4A30-4B7D-B2B5-C0313555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0C6-FA08-4890-9260-82D2506B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B4E-B814-4CD2-A86B-13B774AB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A80-41B8-46ED-A2FB-F1EEB340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90E-E69A-43C5-850F-06ADB776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A46-F3C7-4220-BFFF-BCF40898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532-EBFD-4550-ADA9-1784D604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D55-B3B1-44CE-A1F8-1214F39D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766-7ED7-4A45-B2D3-4359534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DCC-9978-44D3-A5CA-44B9F86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0FB-0CFD-499C-9176-54404D2E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54A-231F-433F-881A-50DB59C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3F85-30C0-43D1-A142-6FB910EB75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80hF09BMKM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vOhfL4mY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95400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Sneak Peek </a:t>
            </a:r>
            <a:br>
              <a:rPr sz="72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to the</a:t>
            </a:r>
            <a:br>
              <a:rPr sz="156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 Winter Wonderland </a:t>
            </a: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Book Fai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tch a Snowflak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pture the Magi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Read a Book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8000" y="981000"/>
            <a:ext cx="3538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UGL</a:t>
            </a: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IE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ADAVID"/>
              </a:rPr>
              <a:t>Scott Westerf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5920"/>
            <a:ext cx="4713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ADAVID"/>
              </a:rPr>
              <a:t>ENTER THREE 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DAVID"/>
              </a:rPr>
              <a:t>A Story of Macb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Caro</a:t>
            </a: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line B. Co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9795" t="0" r="19795" b="0"/>
          <a:stretch/>
        </p:blipFill>
        <p:spPr>
          <a:xfrm>
            <a:off x="4968720" y="-54000"/>
            <a:ext cx="417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50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ffffff"/>
                </a:solidFill>
                <a:latin typeface="AADAVID"/>
              </a:rPr>
              <a:t>THE ALCHEMYST:</a:t>
            </a:r>
            <a:br>
              <a:rPr sz="5400"/>
            </a:br>
            <a:r>
              <a:rPr b="0" lang="en-CA" sz="2800" spc="-1" strike="noStrike">
                <a:solidFill>
                  <a:srgbClr val="ffffff"/>
                </a:solidFill>
                <a:latin typeface="AADAVID"/>
              </a:rPr>
              <a:t>The Secrets of the Immortal Nicholas Flamel</a:t>
            </a:r>
            <a:br>
              <a:rPr sz="2800"/>
            </a:br>
            <a:r>
              <a:rPr b="0" lang="en-CA" sz="5400" spc="-1" strike="noStrike">
                <a:solidFill>
                  <a:srgbClr val="ffffff"/>
                </a:solidFill>
                <a:latin typeface="AADAVID"/>
              </a:rPr>
              <a:t>Michael Scot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526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968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AADAVID"/>
              </a:rPr>
              <a:t>TWIL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1" lang="en-CA" sz="4000" spc="-1" strike="noStrike">
                <a:solidFill>
                  <a:srgbClr val="ffffff"/>
                </a:solidFill>
                <a:latin typeface="AvantGarde Bk BT"/>
              </a:rPr>
              <a:t>Stephenie Mey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04640"/>
            <a:ext cx="37879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06:16Z</dcterms:created>
  <dc:creator>TCDSB</dc:creator>
  <dc:description/>
  <dc:language>en-US</dc:language>
  <cp:lastModifiedBy>TCDSB</cp:lastModifiedBy>
  <dcterms:modified xsi:type="dcterms:W3CDTF">2009-03-06T18:26:43Z</dcterms:modified>
  <cp:revision>3</cp:revision>
  <dc:subject/>
  <dc:title> </dc:title>
</cp:coreProperties>
</file>