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FD6D-06F0-49D0-AC98-40D691CF0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1B56-9F6F-4659-B52E-1B9B81527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2A49-2F2C-4D46-B763-4852437D6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ED75-9743-4257-AD9C-0713BA31A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E449-0709-4383-9FAC-B2B97FF60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806F-F143-461B-BDF9-DB9310F3F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A9F8-D193-41F6-9314-FCFA44489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7A2A-81BD-471A-ADAF-54E0DAF0D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7D3F-FC9B-4A56-8690-0CD7181FF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CF84-B9A3-4B09-8008-0E860CC15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92AA-E201-4DD7-A3A1-3B02782ED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7732-8EB9-4F96-B8FA-77E56ADB2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9132B-45DA-4362-9905-34C1BC7B4B3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g80hF09BMKM&amp;feature=related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xBvOhfL4mYw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6352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600"/>
            </a:b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340000" y="954000"/>
            <a:ext cx="64008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Brush Script MT"/>
              </a:rPr>
              <a:t>Sneak Peek </a:t>
            </a:r>
            <a:br>
              <a:rPr sz="7200"/>
            </a:br>
            <a:r>
              <a:rPr b="0" lang="en-US" sz="6000" spc="-1" strike="noStrike">
                <a:solidFill>
                  <a:srgbClr val="0000ff"/>
                </a:solidFill>
                <a:latin typeface="Brush Script MT"/>
              </a:rPr>
              <a:t>to the</a:t>
            </a:r>
            <a:br>
              <a:rPr sz="15600"/>
            </a:br>
            <a:r>
              <a:rPr b="0" lang="en-US" sz="6000" spc="-1" strike="noStrike">
                <a:solidFill>
                  <a:srgbClr val="0000ff"/>
                </a:solidFill>
                <a:latin typeface="Brush Script MT"/>
              </a:rPr>
              <a:t> Winter Wonderland </a:t>
            </a:r>
            <a:r>
              <a:rPr b="0" lang="en-US" sz="7200" spc="-1" strike="noStrike">
                <a:solidFill>
                  <a:srgbClr val="0000ff"/>
                </a:solidFill>
                <a:latin typeface="Brush Script MT"/>
              </a:rPr>
              <a:t>Book Fair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Brush Script MT"/>
              </a:rPr>
              <a:t>Catch a Snowflake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marL="29844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Brush Script MT"/>
              </a:rPr>
              <a:t>Capture the Magic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marL="29844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Brush Script MT"/>
              </a:rPr>
              <a:t>Read a Book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5148000" y="981000"/>
            <a:ext cx="353844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7200" spc="-1" strike="noStrike">
                <a:solidFill>
                  <a:srgbClr val="ffffff"/>
                </a:solidFill>
                <a:latin typeface="AADAVID"/>
              </a:rPr>
              <a:t>UGL</a:t>
            </a:r>
            <a:r>
              <a:rPr b="0" lang="en-CA" sz="7200" spc="-1" strike="noStrike">
                <a:solidFill>
                  <a:srgbClr val="ffffff"/>
                </a:solidFill>
                <a:latin typeface="AADAVID"/>
              </a:rPr>
              <a:t>IES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ffffff"/>
                </a:solidFill>
                <a:latin typeface="AADAVID"/>
              </a:rPr>
              <a:t>Scott Westerfel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115920"/>
            <a:ext cx="471312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23640" y="1052640"/>
            <a:ext cx="454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e701"/>
                </a:solidFill>
                <a:latin typeface="AADAVID"/>
              </a:rPr>
              <a:t>ENTER THREE WITCH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ADAVID"/>
              </a:rPr>
              <a:t>A Story of Macbe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ADAVID"/>
              </a:rPr>
              <a:t>Caro</a:t>
            </a:r>
            <a:r>
              <a:rPr b="0" lang="en-US" sz="3600" spc="-1" strike="noStrike">
                <a:solidFill>
                  <a:srgbClr val="ffffff"/>
                </a:solidFill>
                <a:latin typeface="AADAVID"/>
              </a:rPr>
              <a:t>line B. Coone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rcRect l="19795" t="0" r="19795" b="0"/>
          <a:stretch/>
        </p:blipFill>
        <p:spPr>
          <a:xfrm>
            <a:off x="4968720" y="-54000"/>
            <a:ext cx="4175280" cy="69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356000" y="404280"/>
            <a:ext cx="4500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5400" spc="-1" strike="noStrike">
                <a:solidFill>
                  <a:srgbClr val="ffffff"/>
                </a:solidFill>
                <a:latin typeface="AADAVID"/>
              </a:rPr>
              <a:t>THE ALCHEMYST:</a:t>
            </a:r>
            <a:br>
              <a:rPr sz="5400"/>
            </a:br>
            <a:r>
              <a:rPr b="0" lang="en-CA" sz="2800" spc="-1" strike="noStrike">
                <a:solidFill>
                  <a:srgbClr val="ffffff"/>
                </a:solidFill>
                <a:latin typeface="AADAVID"/>
              </a:rPr>
              <a:t>The Secrets of the Immortal Nicholas Flamel</a:t>
            </a:r>
            <a:br>
              <a:rPr sz="2800"/>
            </a:br>
            <a:r>
              <a:rPr b="0" lang="en-CA" sz="5400" spc="-1" strike="noStrike">
                <a:solidFill>
                  <a:srgbClr val="ffffff"/>
                </a:solidFill>
                <a:latin typeface="AADAVID"/>
              </a:rPr>
              <a:t>Michael Scott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4152600" cy="62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0" y="1700280"/>
            <a:ext cx="496872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6000" spc="-1" strike="noStrike">
                <a:solidFill>
                  <a:srgbClr val="ffffff"/>
                </a:solidFill>
                <a:latin typeface="AADAVID"/>
              </a:rPr>
              <a:t>TWILIGHT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6600" spc="-1" strike="noStrike">
                <a:solidFill>
                  <a:srgbClr val="ffffff"/>
                </a:solidFill>
                <a:latin typeface="AvantGarde Bk BT"/>
              </a:rPr>
              <a:t> </a:t>
            </a:r>
            <a:r>
              <a:rPr b="1" lang="en-CA" sz="4000" spc="-1" strike="noStrike">
                <a:solidFill>
                  <a:srgbClr val="ffffff"/>
                </a:solidFill>
                <a:latin typeface="AvantGarde Bk BT"/>
              </a:rPr>
              <a:t>Stephenie Mey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3280" y="404640"/>
            <a:ext cx="3787920" cy="568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2T15:06:16Z</dcterms:created>
  <dc:creator>TCDSB</dc:creator>
  <dc:description/>
  <dc:language>en-US</dc:language>
  <cp:lastModifiedBy>TCDSB</cp:lastModifiedBy>
  <dcterms:modified xsi:type="dcterms:W3CDTF">2009-03-06T18:26:43Z</dcterms:modified>
  <cp:revision>3</cp:revision>
  <dc:subject/>
  <dc:title> </dc:title>
</cp:coreProperties>
</file>